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443-0B3B-4525-BC2E-1AE0175E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996-7C97-4BD4-95C7-71CB1E12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C04-FAAB-4F02-91B8-BFA39CA5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329-7AB6-44EF-90DF-7D593B02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3CC2-444D-4E08-AF64-CCECE944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2052-2E00-4018-8CA7-4F264160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D81E-AEE8-4EC5-B5A7-9E77FE85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2A6F-01CC-4652-8E94-45B2079F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7F61-61E5-4FFA-9256-64CC1B20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D4AE-0558-41A7-8843-C02124CF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03CA-B7C7-4FC4-A597-9D15F99E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397-ADE7-4B75-BA4C-8FCDB1B2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8D7F-89B3-42FD-8215-FBB84272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7AE2-F51D-4217-B599-4BA5FED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118F-668D-48AD-8C77-BD87BF17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A373-76CA-46B1-AE03-57A269DB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3749-279C-462A-99A1-69C36818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0B3-1F6F-4CCF-8DE5-8D861A07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4DE-276C-4B25-8A9C-0C160636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72E-6E92-45DB-A639-281C38BB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444-155F-42E6-893A-2C159C5F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44C-4BD2-4B76-8DFB-DE3465C6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0D7-6847-4B79-A0CC-CB6732D5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FA3-02EE-4066-A10D-E2FFEF99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5125-D75E-4B13-9908-9CC75C29A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C1E0-64AD-4F0D-A519-D687D64E2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tested grammatical rule on the ACT is subject/verb and pronoun antecedent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Fragment It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00200" y="1981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ly listened to music.  While she stu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ly listened to music while she stu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5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nctuation 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218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unctuation Mark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600200" y="28191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lon – used to separate two complete thoughts.  (think peri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 – follows a complete thought and often begins a li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sh – can be used for any pause. (think com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6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gnizing the need for adverb or ad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 or Adverb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76520" y="30477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a is an extreme gifted child, and she speaks beautiful to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a is an extremely gifted child, and she speaks beautifully to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7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or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Usag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did good on the 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did well on the 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8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2971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dio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check to make sure idioms utilize the correct preposition.  Many words require particular prepos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diom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25760" y="3428640"/>
            <a:ext cx="6400800" cy="22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diom is an established phrase that has a unique or special meaning that can be look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0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 or 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functions as a subje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m functions as an obje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Agreement It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25760" y="3276720"/>
            <a:ext cx="640080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tudent won’t st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n’t do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wner of the bicycl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oing to sell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o or Whom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00200" y="34286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ashed the c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he gave the present to whom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676160" y="2209680"/>
            <a:ext cx="635004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stroph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make a noun possessive by adding an “s,” you use an apostrop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ever use an apostrophe to make a pronoun possessive.  Pronouns have special possessive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postrophe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76520" y="3276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any claims its illegal to use it’s name tha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any claims it’s illegal to use its name tha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676520" y="3200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 and Superl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two things – use –er or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more than two things –use –est or m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Comparative/Superlative Exampl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676520" y="2590560"/>
            <a:ext cx="64260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goldfish is more smarter than your br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Never use both more or most and an e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hink vanilla is the most tastiest pudding e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600200" y="33526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or Am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– Two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– More than two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age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828800" y="2438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walk among the two sections of the class.  I will walk between the many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walk between the two sections of the class.  I will walk among the many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23880" y="30477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 or Fe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word less only for uncountable thing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ngs can be counted, use fe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age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676160" y="3352320"/>
            <a:ext cx="63500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less people here tonight than last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fewer people here tonight than last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5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erb Fo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tz had just began to toast Lydia’s marshmallows when the rabbits stamped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Agreement It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25760" y="29718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tudent won’t study, he or she won’t do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tudents won’t study, they won’t do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wner of the bicycles is going to sell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6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splaced Modifi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arling and snapping, Juanita attempted to control her pet tur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7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hifts in Pronoun Person or Numb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sters should work at the most efficient pace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18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noun Forms and Cas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00200" y="3581280"/>
            <a:ext cx="64008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and Susie anno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ents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incident with the peanut butter, Joh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re never invited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00200" y="34286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ment Errors with Compound Subjects an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Agreement It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30477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ol gave the wrong tickets to Bob and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ol gave the wrong tickets to Bob an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nctuating Parenthetical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Parenthetical Phra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76520" y="3200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z—the last girl on the right, is alway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z, the last girl on the right, is alway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mmar Error #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gments and Run-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ample Run-On Sent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’s a slacker, Sara is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’s a slacker, but Sara is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’s a slacker; Sara is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’s a slacker.  Sara is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, unlike Sara, is a slac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2-03-10T18:38:24Z</dcterms:modified>
  <cp:revision>12</cp:revision>
  <dc:subject/>
  <dc:title>PowerPoint Presentation</dc:title>
</cp:coreProperties>
</file>